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4625-E37F-41A7-9444-7DBE33597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D2DD-D3EC-4868-AA5F-1849EB21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7410-74F1-4827-8063-1565D6A56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3453-3C21-400B-AA52-3145486D8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1601-8290-45DC-9966-AE75514F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B3DF-561C-443F-BBA4-3878F954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1F3C-FB50-45F6-8D45-B662F30B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9FCD-9CBF-4AFD-B92C-2DF446BD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8F3E-EE63-4CBC-BF66-CA730BA1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B0AB-1C55-4091-A5F3-B92D9A04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750D-FE40-4E38-BFED-553BAEE6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54D9-7017-457D-A2E4-DC516CD6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4437-86CB-491E-8E2C-0C1B70F799C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560" y="178560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性别：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年龄：</a:t>
            </a:r>
            <a:r>
              <a:rPr b="1" lang="en-US" sz="1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国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毕业院校及学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工作机构及职务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主要工作经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214200" y="28584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名</a:t>
            </a:r>
            <a:r>
              <a:rPr b="1" lang="en-US" sz="3700" spc="-1" strike="noStrike">
                <a:solidFill>
                  <a:srgbClr val="0070c0"/>
                </a:solidFill>
                <a:latin typeface="宋体"/>
              </a:rPr>
              <a:t> </a:t>
            </a: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姓（中文姓名）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4000" y="3141720"/>
          <a:ext cx="8377200" cy="2278080"/>
        </p:xfrm>
        <a:graphic>
          <a:graphicData uri="http://schemas.openxmlformats.org/drawingml/2006/table">
            <a:tbl>
              <a:tblPr/>
              <a:tblGrid>
                <a:gridCol w="2687760"/>
                <a:gridCol w="768240"/>
                <a:gridCol w="457200"/>
                <a:gridCol w="766800"/>
                <a:gridCol w="647640"/>
                <a:gridCol w="144360"/>
                <a:gridCol w="2905200"/>
              </a:tblGrid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职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国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单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0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4" name="TextBox 6"/>
          <p:cNvSpPr/>
          <p:nvPr/>
        </p:nvSpPr>
        <p:spPr>
          <a:xfrm>
            <a:off x="7000920" y="714240"/>
            <a:ext cx="15001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428760" y="214200"/>
            <a:ext cx="550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附件四     评审演示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模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4"/>
          <p:cNvSpPr/>
          <p:nvPr/>
        </p:nvSpPr>
        <p:spPr>
          <a:xfrm>
            <a:off x="539640" y="1197000"/>
            <a:ext cx="72723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项目单位及拟任职务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专项特长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539640" y="15573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项目单位评价</a:t>
            </a:r>
            <a:r>
              <a:rPr b="1" lang="en-US" sz="1800" spc="-1" strike="noStrike">
                <a:solidFill>
                  <a:srgbClr val="cc3300"/>
                </a:solidFill>
                <a:latin typeface="黑体"/>
                <a:ea typeface="黑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920520" y="549360"/>
            <a:ext cx="1308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单位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4"/>
          <p:cNvSpPr/>
          <p:nvPr/>
        </p:nvSpPr>
        <p:spPr>
          <a:xfrm>
            <a:off x="539640" y="1700280"/>
            <a:ext cx="41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评审专家评价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539640" y="549360"/>
            <a:ext cx="216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专家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8T01:36:42Z</dcterms:created>
  <dc:creator>Administrator</dc:creator>
  <dc:description/>
  <dc:language>en-US</dc:language>
  <cp:lastModifiedBy>User</cp:lastModifiedBy>
  <dcterms:modified xsi:type="dcterms:W3CDTF">2013-06-28T01:53:00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